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724-BF93-49F0-AC59-8BD0A317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391-4FD7-4558-9211-FDB5FC04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9ED-B021-455A-BAA1-6F83252D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59F-6A31-472B-A8E5-A196B0E7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15F-B952-4D06-9BCD-6B22B781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888-BE06-4673-A6CF-FEB18BC5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E18-46D5-46D4-9EA6-457D700A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9B7-D821-4B81-B89A-D976D365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99C-9144-4B6C-A254-91F11E37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12E-3F82-4EBE-B3D8-E0B88781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AD8-AF68-4340-810A-1ABED587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E31-F64B-4444-B627-C19A7FDF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151B-194F-45DD-86D7-929219383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592200"/>
            <a:ext cx="53848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stavitev izvajanja Letnega načrta vrednotenja izvajanja OP EKP v obdobju 2014-2020 za leti 2016 in 2017 in predstavitev Letnega načrta vrednotenja izvajanja OP EKP v obdobju 2014-2020 za leto 2018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ravokotnik 1"/>
          <p:cNvSpPr/>
          <p:nvPr/>
        </p:nvSpPr>
        <p:spPr>
          <a:xfrm>
            <a:off x="601560" y="196920"/>
            <a:ext cx="72295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6 predstavljajo naslednja vrednotenj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. Vrednotenje aktivne politike zaposlovanja v RS/ Connecting People with Job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 Končno vrednotenje Komunikacijskega načrta informiranja in obveščanja javnosti o izvajanju Operativnih programov v programskem obdobju 2007-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3. Končno vrednotenje izvajanja Operativnih programov programskega obdobja 2007-2013 v Sloveni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Calibri"/>
              </a:rPr>
              <a:t>LNV za leto 2016 je bil v celoti realizir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7 predstavljata naslednji vrednotenj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. Vrednotenje prispevka krepitve zmogljivosti NVO na izvajanje zagovorništva in javnih storitev (v fazi priprave razpisne dokumentacij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 Vmesno vrednotenje učinkovitosti in uspešnosti izvajanja ukrepov s področja visokega šolstva (zaradi zamika pri izvajanju se bo priprava tehnične specifikacije vrednotenja začela jesen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avokotnik 1"/>
          <p:cNvSpPr/>
          <p:nvPr/>
        </p:nvSpPr>
        <p:spPr>
          <a:xfrm>
            <a:off x="620640" y="674640"/>
            <a:ext cx="7550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8 predstavljajo naslednja vrednotenj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. Vrednotenje Pobude za zaposlovanje mladih (Program »Prvi izziv 2015«) - znižanje brezposelnosti mladih, ki niso zaposleni in se ne izobražujejo ali usposabljajo v starosti od 15 do 29 let v kohezijski regiji Vzhodna Slovenija, 2. faz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 Vrednotenje uspešnosti izvajanja vseživljenjske karierne orientacije vključno s sistemom napovedovanja potreb na trgu del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3. Vrednotenje uspešnosti programa PUM(O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. Vrednotenje izvajanja v okviru PN 4.1. Spodbujanje energetske učinkovitosti, pametnega ravnanja z energijo in uporabe obnovljivih virov v javni infrastrukturi, vključno z javnimi stavbami, in v stanovanjskem sektorju, Specifični cilj 1: Povečanje učinkovitosti rabe energije v javnem sektorju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5. Vrednotenje upoštevanja načela trajnostnega razvoja pri izvajanju OP EKP 2014-202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6. Vrednotenje prispevkov OP EKP 2014-2020 k nacionalnim ciljem Strategije Unije za pametno, trajnostno in vključujočo rast, komplementarnost med strukturnimi in drugimi evropskimi sklad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LNV izvajanja OP EKP za leto 2018 je bil predstavljen in usklajen na 4. sestanku Interdisciplinarne posvetovalne skupine za vrednotenje dne 23.5.20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vala za pozornost!</a:t>
            </a:r>
            <a:br>
              <a:rPr sz="2800"/>
            </a:br>
            <a:r>
              <a:rPr b="1" lang="sl-SI" sz="1400" spc="-1" strike="noStrike">
                <a:solidFill>
                  <a:srgbClr val="000000"/>
                </a:solidFill>
                <a:latin typeface="Calibri"/>
              </a:rPr>
              <a:t>http://www.eu-skladi.si/portal/sl/ekp/studije-in-vrednotenja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irjam Tolar</cp:lastModifiedBy>
  <cp:lastPrinted>2017-05-22T10:39:40Z</cp:lastPrinted>
  <dcterms:modified xsi:type="dcterms:W3CDTF">2017-06-09T08:57:04Z</dcterms:modified>
  <cp:revision>83</cp:revision>
  <dc:subject/>
  <dc:title>PowerPoint Presentation</dc:title>
</cp:coreProperties>
</file>